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9F8-B3C7-417E-965F-D8A8FB09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E3E-62A6-4BF0-9F63-0E269DBC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0E6-4D5A-4813-BDEB-37224FB4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4CE-A8C7-418D-9B49-1BA78EC0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697-8E41-4F64-A6E3-35035492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7BE-ED98-4269-A964-B2DBBEEA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CF0-0E07-4E15-A64A-019506A8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A6C-89E7-4944-838F-6A62F54F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A6C-1199-4DAF-86E6-8657CADE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8B6-899C-45A7-9007-6AA3FEDF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864-B308-4F4F-B4CB-8273AF93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8B9-7823-470A-83A0-84724421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0949-AD8F-4F49-8396-79A37EAD1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205891gyyyQAlXVQ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90440" y="0"/>
            <a:ext cx="902952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رفعت عيني إلى الجبال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من حيث يأتي عوني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معونتي من عند الربّ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صانعِ السما والأرض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لا يدع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جلك تَزِِل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ا ينعس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ا ي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ر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يحفظك، الرب ستر 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ا تؤذيك الشمس ف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نها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ا القمر في اللي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يحفظك الرب من كل سوءٍ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يحفظ الربُّ نفسك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يحفظ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ربُّ ذهابَك وإيابَك، من الآن وإلى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الأب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20T00:56:00Z</dcterms:modified>
  <cp:revision>9</cp:revision>
  <dc:subject/>
  <dc:title>PowerPoint Presentation</dc:title>
</cp:coreProperties>
</file>